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529-6649-49F3-A598-543AE84B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FFF-3828-4861-84BA-88C0C7E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38D-2F78-4FF9-B094-BEBB7D1F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E29-6C5A-4F9E-8EA6-1CF17194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0FBC-1544-4B67-B8D9-825C852A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0DB5-6185-458C-BD1B-2A0E855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AA34-F7A7-4C2B-9366-42520D3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B0A1-2D75-4633-9414-D609C7A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B082-11FB-4195-A04C-DE71A4B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A886-A77E-4C06-843B-779EB696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277E-93D8-4353-82C0-5162C90B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AAA-3AB2-4B4B-8C16-3CCDAF18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0720-5DA0-4E24-88E9-CD725E1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D819-537F-49C1-B20A-49B61E38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64DB-E8EE-434C-8B00-17F61D1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6F2-0265-45A6-B7CB-3309259B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16E-C3A4-4F4F-97A0-6B3B72DD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8BD-1D79-439E-B9F1-D0AB8008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6D9-EF00-497F-AE9C-67FDE518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1E2-5BD1-4110-A061-0B629322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DFD-F4B2-4A7F-9244-6C568B70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70A-CFA0-482E-BDD2-0F6A370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48F-DDE2-4CE2-9152-E1F8A4BB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09D-6FFA-47BE-B802-DFE29B4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8BA-A3D0-4494-816F-FC9187C49D3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6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5.xml"/><Relationship Id="rId9" Type="http://schemas.openxmlformats.org/officeDocument/2006/relationships/slide" Target="slide29.xm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415280" cy="8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y Administración de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000" y="2636640"/>
            <a:ext cx="6335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171ff"/>
                </a:solidFill>
                <a:latin typeface="Arial"/>
              </a:rPr>
              <a:t>ABAD CEPEDELLO ASESORES. S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80000" y="486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508720" y="508464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abel Mª Abad Pat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ª Carmen Molero Almaz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rgo plazo lo que esta organización espera es poder seguir ofreciendo a sus clientes los mejores servicios, manteniendo su carácter personalista. Aumentar su influencia en el mercado empresarial y seguir siendo pionera en el área del asesoramiento empresarial. Para ello cuenta con su desarrollo tecnológico y la comodidad y garantía de los servicios prestados a su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2089080" cy="173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guntas realizadas a cada 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el título de su cargo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su misión principal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Tiene autoridad sobre alguna person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ómo se controla la actividad que usted realiz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on qué personas de la empresa o ajenas a ella colabor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ctividades que suele realiz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Organization Chart 16"/>
          <p:cNvGrpSpPr/>
          <p:nvPr/>
        </p:nvGrpSpPr>
        <p:grpSpPr>
          <a:xfrm>
            <a:off x="179280" y="2298600"/>
            <a:ext cx="8829720" cy="4074840"/>
            <a:chOff x="179280" y="2298600"/>
            <a:chExt cx="8829720" cy="4074840"/>
          </a:xfrm>
        </p:grpSpPr>
        <p:cxnSp>
          <p:nvCxnSpPr>
            <p:cNvPr id="134" name="_s1028"/>
            <p:cNvCxnSpPr>
              <a:stCxn id="135" idx="4"/>
              <a:endCxn id="136" idx="3"/>
            </p:cNvCxnSpPr>
            <p:nvPr/>
          </p:nvCxnSpPr>
          <p:spPr>
            <a:xfrm flipV="1">
              <a:off x="4460400" y="2510280"/>
              <a:ext cx="122400" cy="246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7" name="_s1029"/>
            <p:cNvCxnSpPr>
              <a:stCxn id="138" idx="4"/>
              <a:endCxn id="139" idx="3"/>
            </p:cNvCxnSpPr>
            <p:nvPr/>
          </p:nvCxnSpPr>
          <p:spPr>
            <a:xfrm flipV="1">
              <a:off x="5632200" y="35571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0" name="_s1030"/>
            <p:cNvCxnSpPr>
              <a:stCxn id="141" idx="2"/>
              <a:endCxn id="139" idx="3"/>
            </p:cNvCxnSpPr>
            <p:nvPr/>
          </p:nvCxnSpPr>
          <p:spPr>
            <a:xfrm rot="10800000">
              <a:off x="5753880" y="3556440"/>
              <a:ext cx="120600" cy="950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2" name="_s1031"/>
            <p:cNvCxnSpPr>
              <a:stCxn id="143" idx="2"/>
              <a:endCxn id="139" idx="3"/>
            </p:cNvCxnSpPr>
            <p:nvPr/>
          </p:nvCxnSpPr>
          <p:spPr>
            <a:xfrm rot="10800000">
              <a:off x="5753880" y="3556440"/>
              <a:ext cx="120600" cy="5997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4" name="_s1032"/>
            <p:cNvCxnSpPr>
              <a:stCxn id="145" idx="4"/>
              <a:endCxn id="146" idx="3"/>
            </p:cNvCxnSpPr>
            <p:nvPr/>
          </p:nvCxnSpPr>
          <p:spPr>
            <a:xfrm flipV="1">
              <a:off x="3306240" y="3909240"/>
              <a:ext cx="122400" cy="600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7" name="_s1033"/>
            <p:cNvCxnSpPr>
              <a:stCxn id="148" idx="4"/>
              <a:endCxn id="146" idx="3"/>
            </p:cNvCxnSpPr>
            <p:nvPr/>
          </p:nvCxnSpPr>
          <p:spPr>
            <a:xfrm flipV="1">
              <a:off x="3306240" y="3909600"/>
              <a:ext cx="12240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9" name="_s1034"/>
            <p:cNvCxnSpPr>
              <a:stCxn id="150" idx="4"/>
              <a:endCxn id="146" idx="3"/>
            </p:cNvCxnSpPr>
            <p:nvPr/>
          </p:nvCxnSpPr>
          <p:spPr>
            <a:xfrm flipV="1">
              <a:off x="3306240" y="3909600"/>
              <a:ext cx="122400" cy="1303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1" name="_s1035"/>
            <p:cNvCxnSpPr>
              <a:stCxn id="152" idx="4"/>
              <a:endCxn id="146" idx="3"/>
            </p:cNvCxnSpPr>
            <p:nvPr/>
          </p:nvCxnSpPr>
          <p:spPr>
            <a:xfrm flipV="1">
              <a:off x="3306240" y="3909600"/>
              <a:ext cx="122400" cy="1656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3" name="_s1036"/>
            <p:cNvCxnSpPr>
              <a:stCxn id="154" idx="4"/>
              <a:endCxn id="146" idx="3"/>
            </p:cNvCxnSpPr>
            <p:nvPr/>
          </p:nvCxnSpPr>
          <p:spPr>
            <a:xfrm flipV="1">
              <a:off x="3306240" y="3909600"/>
              <a:ext cx="122400" cy="2007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1037"/>
            <p:cNvCxnSpPr>
              <a:stCxn id="156" idx="4"/>
              <a:endCxn id="146" idx="3"/>
            </p:cNvCxnSpPr>
            <p:nvPr/>
          </p:nvCxnSpPr>
          <p:spPr>
            <a:xfrm flipV="1">
              <a:off x="3306240" y="3909240"/>
              <a:ext cx="122400" cy="2359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1038"/>
            <p:cNvCxnSpPr>
              <a:stCxn id="158" idx="4"/>
              <a:endCxn id="146" idx="3"/>
            </p:cNvCxnSpPr>
            <p:nvPr/>
          </p:nvCxnSpPr>
          <p:spPr>
            <a:xfrm flipV="1">
              <a:off x="3306240" y="39099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9" name="_s1039"/>
            <p:cNvCxnSpPr>
              <a:stCxn id="146" idx="0"/>
              <a:endCxn id="160" idx="3"/>
            </p:cNvCxnSpPr>
            <p:nvPr/>
          </p:nvCxnSpPr>
          <p:spPr>
            <a:xfrm flipV="1" rot="16200000">
              <a:off x="3295080" y="3516480"/>
              <a:ext cx="118080" cy="19800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1" name="_s1040"/>
            <p:cNvCxnSpPr>
              <a:stCxn id="162" idx="2"/>
              <a:endCxn id="163" idx="3"/>
            </p:cNvCxnSpPr>
            <p:nvPr/>
          </p:nvCxnSpPr>
          <p:spPr>
            <a:xfrm rot="10800000">
              <a:off x="750240" y="3556440"/>
              <a:ext cx="120960" cy="1304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4" name="_s1041"/>
            <p:cNvCxnSpPr>
              <a:stCxn id="165" idx="2"/>
              <a:endCxn id="163" idx="3"/>
            </p:cNvCxnSpPr>
            <p:nvPr/>
          </p:nvCxnSpPr>
          <p:spPr>
            <a:xfrm rot="10800000">
              <a:off x="750240" y="3556440"/>
              <a:ext cx="120960" cy="6004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6" name="_s1042"/>
            <p:cNvCxnSpPr>
              <a:stCxn id="167" idx="2"/>
              <a:endCxn id="163" idx="3"/>
            </p:cNvCxnSpPr>
            <p:nvPr/>
          </p:nvCxnSpPr>
          <p:spPr>
            <a:xfrm rot="10800000">
              <a:off x="750240" y="3556440"/>
              <a:ext cx="12096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8" name="_s1043"/>
            <p:cNvCxnSpPr>
              <a:stCxn id="169" idx="2"/>
              <a:endCxn id="163" idx="3"/>
            </p:cNvCxnSpPr>
            <p:nvPr/>
          </p:nvCxnSpPr>
          <p:spPr>
            <a:xfrm rot="10800000">
              <a:off x="750240" y="3557160"/>
              <a:ext cx="12096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0" name="_s1044"/>
            <p:cNvCxnSpPr>
              <a:stCxn id="171" idx="0"/>
              <a:endCxn id="172" idx="3"/>
            </p:cNvCxnSpPr>
            <p:nvPr/>
          </p:nvCxnSpPr>
          <p:spPr>
            <a:xfrm flipV="1" rot="16200000">
              <a:off x="8047080" y="2938320"/>
              <a:ext cx="118080" cy="6620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3" name="_s1045"/>
            <p:cNvCxnSpPr>
              <a:stCxn id="174" idx="0"/>
              <a:endCxn id="172" idx="3"/>
            </p:cNvCxnSpPr>
            <p:nvPr/>
          </p:nvCxnSpPr>
          <p:spPr>
            <a:xfrm flipH="1" flipV="1" rot="5400000">
              <a:off x="7409880" y="2962800"/>
              <a:ext cx="118080" cy="6134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5" name="_s1046"/>
            <p:cNvCxnSpPr>
              <a:stCxn id="139" idx="2"/>
              <a:endCxn id="176" idx="3"/>
            </p:cNvCxnSpPr>
            <p:nvPr/>
          </p:nvCxnSpPr>
          <p:spPr>
            <a:xfrm rot="10800000">
              <a:off x="4888440" y="3210120"/>
              <a:ext cx="294120" cy="24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7" name="_s1047"/>
            <p:cNvCxnSpPr>
              <a:stCxn id="160" idx="0"/>
              <a:endCxn id="178" idx="3"/>
            </p:cNvCxnSpPr>
            <p:nvPr/>
          </p:nvCxnSpPr>
          <p:spPr>
            <a:xfrm flipV="1" rot="16200000">
              <a:off x="3208320" y="3256920"/>
              <a:ext cx="118080" cy="2448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9" name="_s1048"/>
            <p:cNvCxnSpPr>
              <a:stCxn id="163" idx="0"/>
              <a:endCxn id="180" idx="3"/>
            </p:cNvCxnSpPr>
            <p:nvPr/>
          </p:nvCxnSpPr>
          <p:spPr>
            <a:xfrm flipH="1" flipV="1" rot="5400000">
              <a:off x="1137960" y="2846160"/>
              <a:ext cx="118080" cy="84672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1" name="_s1049"/>
            <p:cNvCxnSpPr>
              <a:stCxn id="172" idx="0"/>
              <a:endCxn id="136" idx="3"/>
            </p:cNvCxnSpPr>
            <p:nvPr/>
          </p:nvCxnSpPr>
          <p:spPr>
            <a:xfrm flipV="1" rot="16200000">
              <a:off x="5957640" y="1135440"/>
              <a:ext cx="467280" cy="321696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2" name="_s1050"/>
            <p:cNvCxnSpPr>
              <a:stCxn id="176" idx="0"/>
              <a:endCxn id="136" idx="3"/>
            </p:cNvCxnSpPr>
            <p:nvPr/>
          </p:nvCxnSpPr>
          <p:spPr>
            <a:xfrm flipV="1" rot="16200000">
              <a:off x="4514400" y="2578680"/>
              <a:ext cx="467280" cy="3304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3" name="_s1051"/>
            <p:cNvCxnSpPr>
              <a:stCxn id="178" idx="0"/>
              <a:endCxn id="136" idx="3"/>
            </p:cNvCxnSpPr>
            <p:nvPr/>
          </p:nvCxnSpPr>
          <p:spPr>
            <a:xfrm flipH="1" flipV="1" rot="5400000">
              <a:off x="3697200" y="2091960"/>
              <a:ext cx="467280" cy="13042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4" name="_s1052"/>
            <p:cNvCxnSpPr>
              <a:stCxn id="180" idx="0"/>
              <a:endCxn id="136" idx="3"/>
            </p:cNvCxnSpPr>
            <p:nvPr/>
          </p:nvCxnSpPr>
          <p:spPr>
            <a:xfrm flipH="1" flipV="1" rot="5400000">
              <a:off x="2881080" y="1275480"/>
              <a:ext cx="467280" cy="293760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6" name="_s1053"/>
            <p:cNvSpPr/>
            <p:nvPr/>
          </p:nvSpPr>
          <p:spPr>
            <a:xfrm>
              <a:off x="3908160" y="2298600"/>
              <a:ext cx="1371240" cy="211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bad Cepedello S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54"/>
            <p:cNvSpPr/>
            <p:nvPr/>
          </p:nvSpPr>
          <p:spPr>
            <a:xfrm>
              <a:off x="87048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55"/>
            <p:cNvSpPr/>
            <p:nvPr/>
          </p:nvSpPr>
          <p:spPr>
            <a:xfrm>
              <a:off x="250416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6"/>
            <p:cNvSpPr/>
            <p:nvPr/>
          </p:nvSpPr>
          <p:spPr>
            <a:xfrm>
              <a:off x="413820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7"/>
            <p:cNvSpPr/>
            <p:nvPr/>
          </p:nvSpPr>
          <p:spPr>
            <a:xfrm>
              <a:off x="702504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Administrativ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8"/>
            <p:cNvSpPr/>
            <p:nvPr/>
          </p:nvSpPr>
          <p:spPr>
            <a:xfrm>
              <a:off x="17928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" rIns="1224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59"/>
            <p:cNvSpPr/>
            <p:nvPr/>
          </p:nvSpPr>
          <p:spPr>
            <a:xfrm>
              <a:off x="268380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60"/>
            <p:cNvSpPr/>
            <p:nvPr/>
          </p:nvSpPr>
          <p:spPr>
            <a:xfrm>
              <a:off x="51836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61"/>
            <p:cNvSpPr/>
            <p:nvPr/>
          </p:nvSpPr>
          <p:spPr>
            <a:xfrm>
              <a:off x="656676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62"/>
            <p:cNvSpPr/>
            <p:nvPr/>
          </p:nvSpPr>
          <p:spPr>
            <a:xfrm>
              <a:off x="78422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63"/>
            <p:cNvSpPr/>
            <p:nvPr/>
          </p:nvSpPr>
          <p:spPr>
            <a:xfrm>
              <a:off x="870480" y="36756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64"/>
            <p:cNvSpPr/>
            <p:nvPr/>
          </p:nvSpPr>
          <p:spPr>
            <a:xfrm>
              <a:off x="870480" y="43794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65"/>
            <p:cNvSpPr/>
            <p:nvPr/>
          </p:nvSpPr>
          <p:spPr>
            <a:xfrm>
              <a:off x="870480" y="402732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66"/>
            <p:cNvSpPr/>
            <p:nvPr/>
          </p:nvSpPr>
          <p:spPr>
            <a:xfrm>
              <a:off x="870480" y="473148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67"/>
            <p:cNvSpPr/>
            <p:nvPr/>
          </p:nvSpPr>
          <p:spPr>
            <a:xfrm>
              <a:off x="3116520" y="367560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sesor(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68"/>
            <p:cNvSpPr/>
            <p:nvPr/>
          </p:nvSpPr>
          <p:spPr>
            <a:xfrm>
              <a:off x="2683800" y="402732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69"/>
            <p:cNvSpPr/>
            <p:nvPr/>
          </p:nvSpPr>
          <p:spPr>
            <a:xfrm>
              <a:off x="2683800" y="61390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70"/>
            <p:cNvSpPr/>
            <p:nvPr/>
          </p:nvSpPr>
          <p:spPr>
            <a:xfrm>
              <a:off x="2683800" y="57873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1"/>
            <p:cNvSpPr/>
            <p:nvPr/>
          </p:nvSpPr>
          <p:spPr>
            <a:xfrm>
              <a:off x="2683800" y="54352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72"/>
            <p:cNvSpPr/>
            <p:nvPr/>
          </p:nvSpPr>
          <p:spPr>
            <a:xfrm>
              <a:off x="2683800" y="50835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73"/>
            <p:cNvSpPr/>
            <p:nvPr/>
          </p:nvSpPr>
          <p:spPr>
            <a:xfrm>
              <a:off x="2683800" y="4732200"/>
              <a:ext cx="64872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080" rIns="3708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74"/>
            <p:cNvSpPr/>
            <p:nvPr/>
          </p:nvSpPr>
          <p:spPr>
            <a:xfrm>
              <a:off x="2683800" y="4379400"/>
              <a:ext cx="64872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75"/>
            <p:cNvSpPr/>
            <p:nvPr/>
          </p:nvSpPr>
          <p:spPr>
            <a:xfrm>
              <a:off x="5874840" y="4027320"/>
              <a:ext cx="648000" cy="233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76"/>
            <p:cNvSpPr/>
            <p:nvPr/>
          </p:nvSpPr>
          <p:spPr>
            <a:xfrm>
              <a:off x="5874840" y="4378680"/>
              <a:ext cx="64728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77"/>
            <p:cNvSpPr/>
            <p:nvPr/>
          </p:nvSpPr>
          <p:spPr>
            <a:xfrm>
              <a:off x="5008680" y="3675600"/>
              <a:ext cx="64944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78"/>
            <p:cNvSpPr/>
            <p:nvPr/>
          </p:nvSpPr>
          <p:spPr>
            <a:xfrm>
              <a:off x="2959920" y="262800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rganigrama: vis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GRAMAS DEPART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Organization Chart 5"/>
          <p:cNvGrpSpPr/>
          <p:nvPr/>
        </p:nvGrpSpPr>
        <p:grpSpPr>
          <a:xfrm>
            <a:off x="457200" y="2354760"/>
            <a:ext cx="4038120" cy="1758240"/>
            <a:chOff x="457200" y="2354760"/>
            <a:chExt cx="4038120" cy="1758240"/>
          </a:xfrm>
        </p:grpSpPr>
        <p:cxnSp>
          <p:nvCxnSpPr>
            <p:cNvPr id="189" name="_s2052"/>
            <p:cNvCxnSpPr>
              <a:stCxn id="190" idx="0"/>
              <a:endCxn id="191" idx="3"/>
            </p:cNvCxnSpPr>
            <p:nvPr/>
          </p:nvCxnSpPr>
          <p:spPr>
            <a:xfrm flipV="1" rot="16200000">
              <a:off x="2620080" y="3314520"/>
              <a:ext cx="229680" cy="5724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2" name="_s2053"/>
            <p:cNvCxnSpPr>
              <a:stCxn id="193" idx="0"/>
              <a:endCxn id="191" idx="3"/>
            </p:cNvCxnSpPr>
            <p:nvPr/>
          </p:nvCxnSpPr>
          <p:spPr>
            <a:xfrm flipV="1" rot="16200000">
              <a:off x="3144600" y="2790000"/>
              <a:ext cx="229680" cy="16218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4" name="_s2054"/>
            <p:cNvCxnSpPr>
              <a:stCxn id="195" idx="0"/>
              <a:endCxn id="191" idx="3"/>
            </p:cNvCxnSpPr>
            <p:nvPr/>
          </p:nvCxnSpPr>
          <p:spPr>
            <a:xfrm flipH="1" flipV="1" rot="5400000">
              <a:off x="2096280" y="3362760"/>
              <a:ext cx="229680" cy="4766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2055"/>
            <p:cNvCxnSpPr>
              <a:stCxn id="197" idx="0"/>
              <a:endCxn id="191" idx="3"/>
            </p:cNvCxnSpPr>
            <p:nvPr/>
          </p:nvCxnSpPr>
          <p:spPr>
            <a:xfrm flipH="1" flipV="1" rot="5400000">
              <a:off x="1571040" y="2837880"/>
              <a:ext cx="229680" cy="15260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2056"/>
            <p:cNvCxnSpPr>
              <a:stCxn id="191" idx="0"/>
              <a:endCxn id="199" idx="3"/>
            </p:cNvCxnSpPr>
            <p:nvPr/>
          </p:nvCxnSpPr>
          <p:spPr>
            <a:xfrm flipV="1" rot="16200000">
              <a:off x="2365200" y="2841480"/>
              <a:ext cx="229680" cy="496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9" name="_s2057"/>
            <p:cNvSpPr/>
            <p:nvPr/>
          </p:nvSpPr>
          <p:spPr>
            <a:xfrm>
              <a:off x="1510560" y="2354760"/>
              <a:ext cx="19324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8"/>
            <p:cNvSpPr/>
            <p:nvPr/>
          </p:nvSpPr>
          <p:spPr>
            <a:xfrm>
              <a:off x="1540440" y="2981520"/>
              <a:ext cx="1872360" cy="505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(RAFAEL ABAD, GRADUADO SOCIAL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59"/>
            <p:cNvSpPr/>
            <p:nvPr/>
          </p:nvSpPr>
          <p:spPr>
            <a:xfrm>
              <a:off x="45720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60"/>
            <p:cNvSpPr/>
            <p:nvPr/>
          </p:nvSpPr>
          <p:spPr>
            <a:xfrm>
              <a:off x="150588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61"/>
            <p:cNvSpPr/>
            <p:nvPr/>
          </p:nvSpPr>
          <p:spPr>
            <a:xfrm>
              <a:off x="360288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62"/>
            <p:cNvSpPr/>
            <p:nvPr/>
          </p:nvSpPr>
          <p:spPr>
            <a:xfrm>
              <a:off x="255456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22" descr="Imagen 117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Organization Chart 5"/>
          <p:cNvGrpSpPr/>
          <p:nvPr/>
        </p:nvGrpSpPr>
        <p:grpSpPr>
          <a:xfrm>
            <a:off x="457200" y="2354040"/>
            <a:ext cx="4038120" cy="3192480"/>
            <a:chOff x="457200" y="2354040"/>
            <a:chExt cx="4038120" cy="3192480"/>
          </a:xfrm>
        </p:grpSpPr>
        <p:cxnSp>
          <p:nvCxnSpPr>
            <p:cNvPr id="202" name="_s3076"/>
            <p:cNvCxnSpPr>
              <a:stCxn id="203" idx="4"/>
              <a:endCxn id="204" idx="3"/>
            </p:cNvCxnSpPr>
            <p:nvPr/>
          </p:nvCxnSpPr>
          <p:spPr>
            <a:xfrm flipV="1">
              <a:off x="2212200" y="3653640"/>
              <a:ext cx="293760" cy="626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5" name="_s3077"/>
            <p:cNvCxnSpPr>
              <a:stCxn id="206" idx="0"/>
              <a:endCxn id="204" idx="3"/>
            </p:cNvCxnSpPr>
            <p:nvPr/>
          </p:nvCxnSpPr>
          <p:spPr>
            <a:xfrm flipV="1" rot="16200000">
              <a:off x="2473920" y="3684960"/>
              <a:ext cx="1175400" cy="1112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7" name="_s3078"/>
            <p:cNvCxnSpPr>
              <a:stCxn id="208" idx="0"/>
              <a:endCxn id="204" idx="3"/>
            </p:cNvCxnSpPr>
            <p:nvPr/>
          </p:nvCxnSpPr>
          <p:spPr>
            <a:xfrm flipH="1" flipV="1" rot="5400000">
              <a:off x="1433160" y="3756960"/>
              <a:ext cx="1175400" cy="968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9" name="_s3079"/>
            <p:cNvCxnSpPr>
              <a:stCxn id="204" idx="0"/>
              <a:endCxn id="210" idx="3"/>
            </p:cNvCxnSpPr>
            <p:nvPr/>
          </p:nvCxnSpPr>
          <p:spPr>
            <a:xfrm flipV="1" rot="16200000">
              <a:off x="2396520" y="2865600"/>
              <a:ext cx="229320" cy="118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10" name="_s3080"/>
            <p:cNvSpPr/>
            <p:nvPr/>
          </p:nvSpPr>
          <p:spPr>
            <a:xfrm>
              <a:off x="702000" y="2354040"/>
              <a:ext cx="35499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3081"/>
            <p:cNvSpPr/>
            <p:nvPr/>
          </p:nvSpPr>
          <p:spPr>
            <a:xfrm>
              <a:off x="829080" y="3039840"/>
              <a:ext cx="3417840" cy="61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JOSE LUIS ABAD), ABOG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082"/>
            <p:cNvSpPr/>
            <p:nvPr/>
          </p:nvSpPr>
          <p:spPr>
            <a:xfrm>
              <a:off x="580320" y="4829040"/>
              <a:ext cx="183420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083"/>
            <p:cNvSpPr/>
            <p:nvPr/>
          </p:nvSpPr>
          <p:spPr>
            <a:xfrm>
              <a:off x="2661480" y="482904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084"/>
            <p:cNvSpPr/>
            <p:nvPr/>
          </p:nvSpPr>
          <p:spPr>
            <a:xfrm>
              <a:off x="457200" y="388296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23" descr="Imagen 111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Organization Chart 5"/>
          <p:cNvGrpSpPr/>
          <p:nvPr/>
        </p:nvGrpSpPr>
        <p:grpSpPr>
          <a:xfrm>
            <a:off x="395280" y="3933720"/>
            <a:ext cx="8229600" cy="2239560"/>
            <a:chOff x="395280" y="3933720"/>
            <a:chExt cx="8229600" cy="2239560"/>
          </a:xfrm>
        </p:grpSpPr>
        <p:cxnSp>
          <p:nvCxnSpPr>
            <p:cNvPr id="213" name="_s507934"/>
            <p:cNvCxnSpPr>
              <a:stCxn id="214" idx="0"/>
              <a:endCxn id="215" idx="3"/>
            </p:cNvCxnSpPr>
            <p:nvPr/>
          </p:nvCxnSpPr>
          <p:spPr>
            <a:xfrm flipH="1" flipV="1" rot="5400000">
              <a:off x="3774960" y="5158440"/>
              <a:ext cx="263880" cy="11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6" name="_s507932"/>
            <p:cNvCxnSpPr>
              <a:stCxn id="217" idx="0"/>
              <a:endCxn id="215" idx="3"/>
            </p:cNvCxnSpPr>
            <p:nvPr/>
          </p:nvCxnSpPr>
          <p:spPr>
            <a:xfrm flipV="1" rot="16200000">
              <a:off x="4375080" y="5726520"/>
              <a:ext cx="263880" cy="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8" name="_s507930"/>
            <p:cNvCxnSpPr>
              <a:stCxn id="219" idx="0"/>
              <a:endCxn id="215" idx="3"/>
            </p:cNvCxnSpPr>
            <p:nvPr/>
          </p:nvCxnSpPr>
          <p:spPr>
            <a:xfrm flipV="1" rot="16200000">
              <a:off x="4974840" y="5126760"/>
              <a:ext cx="263880" cy="123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0" name="_s507928"/>
            <p:cNvCxnSpPr>
              <a:stCxn id="221" idx="0"/>
              <a:endCxn id="215" idx="3"/>
            </p:cNvCxnSpPr>
            <p:nvPr/>
          </p:nvCxnSpPr>
          <p:spPr>
            <a:xfrm flipV="1" rot="16200000">
              <a:off x="5574960" y="4526640"/>
              <a:ext cx="263880" cy="243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2" name="_s507926"/>
            <p:cNvCxnSpPr>
              <a:stCxn id="223" idx="0"/>
              <a:endCxn id="215" idx="3"/>
            </p:cNvCxnSpPr>
            <p:nvPr/>
          </p:nvCxnSpPr>
          <p:spPr>
            <a:xfrm flipV="1" rot="16200000">
              <a:off x="6175080" y="3926520"/>
              <a:ext cx="263880" cy="36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4" name="_s507924"/>
            <p:cNvCxnSpPr>
              <a:stCxn id="225" idx="0"/>
              <a:endCxn id="215" idx="3"/>
            </p:cNvCxnSpPr>
            <p:nvPr/>
          </p:nvCxnSpPr>
          <p:spPr>
            <a:xfrm flipH="1" flipV="1" rot="5400000">
              <a:off x="3174840" y="4558320"/>
              <a:ext cx="263880" cy="236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6" name="_s507922"/>
            <p:cNvCxnSpPr>
              <a:stCxn id="227" idx="0"/>
              <a:endCxn id="215" idx="3"/>
            </p:cNvCxnSpPr>
            <p:nvPr/>
          </p:nvCxnSpPr>
          <p:spPr>
            <a:xfrm flipH="1" flipV="1" rot="5400000">
              <a:off x="2574720" y="3958200"/>
              <a:ext cx="263880" cy="356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8" name="_s507920"/>
            <p:cNvCxnSpPr>
              <a:stCxn id="215" idx="0"/>
              <a:endCxn id="229" idx="3"/>
            </p:cNvCxnSpPr>
            <p:nvPr/>
          </p:nvCxnSpPr>
          <p:spPr>
            <a:xfrm flipV="1" rot="16200000">
              <a:off x="4378680" y="5023800"/>
              <a:ext cx="263160" cy="36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0" name="_s507916"/>
            <p:cNvCxnSpPr>
              <a:stCxn id="229" idx="0"/>
              <a:endCxn id="231" idx="3"/>
            </p:cNvCxnSpPr>
            <p:nvPr/>
          </p:nvCxnSpPr>
          <p:spPr>
            <a:xfrm flipH="1" flipV="1" rot="5400000">
              <a:off x="4414680" y="4337280"/>
              <a:ext cx="263160" cy="35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1" name="_s507910"/>
            <p:cNvSpPr/>
            <p:nvPr/>
          </p:nvSpPr>
          <p:spPr>
            <a:xfrm>
              <a:off x="3538440" y="3933720"/>
              <a:ext cx="2075760" cy="289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507913"/>
            <p:cNvSpPr/>
            <p:nvPr/>
          </p:nvSpPr>
          <p:spPr>
            <a:xfrm>
              <a:off x="3417480" y="4485600"/>
              <a:ext cx="2185560" cy="42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JUAN ABAD, ECONOMISTA-ASES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07919"/>
            <p:cNvSpPr/>
            <p:nvPr/>
          </p:nvSpPr>
          <p:spPr>
            <a:xfrm>
              <a:off x="3538440" y="5174640"/>
              <a:ext cx="1942920" cy="43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SE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CARMEN  E  INMACULADA AB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507921"/>
            <p:cNvSpPr/>
            <p:nvPr/>
          </p:nvSpPr>
          <p:spPr>
            <a:xfrm>
              <a:off x="3952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507923"/>
            <p:cNvSpPr/>
            <p:nvPr/>
          </p:nvSpPr>
          <p:spPr>
            <a:xfrm>
              <a:off x="15951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507925"/>
            <p:cNvSpPr/>
            <p:nvPr/>
          </p:nvSpPr>
          <p:spPr>
            <a:xfrm>
              <a:off x="75963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507927"/>
            <p:cNvSpPr/>
            <p:nvPr/>
          </p:nvSpPr>
          <p:spPr>
            <a:xfrm>
              <a:off x="639612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507929"/>
            <p:cNvSpPr/>
            <p:nvPr/>
          </p:nvSpPr>
          <p:spPr>
            <a:xfrm>
              <a:off x="51958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507931"/>
            <p:cNvSpPr/>
            <p:nvPr/>
          </p:nvSpPr>
          <p:spPr>
            <a:xfrm>
              <a:off x="399564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07933"/>
            <p:cNvSpPr/>
            <p:nvPr/>
          </p:nvSpPr>
          <p:spPr>
            <a:xfrm>
              <a:off x="279540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31" descr="Imagen 129"/>
          <p:cNvPicPr/>
          <p:nvPr/>
        </p:nvPicPr>
        <p:blipFill>
          <a:blip r:embed="rId1"/>
          <a:stretch/>
        </p:blipFill>
        <p:spPr>
          <a:xfrm>
            <a:off x="1835280" y="1413000"/>
            <a:ext cx="5976720" cy="2668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7171ff"/>
                </a:solidFill>
                <a:latin typeface="Arial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Característic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Organi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 action="ppaction://hlinksldjump"/>
              </a:rPr>
              <a:t>Análisis de la estructura formal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 action="ppaction://hlinksldjump"/>
              </a:rPr>
              <a:t>Análisis de procesos (organigra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 action="ppaction://hlinksldjump"/>
              </a:rPr>
              <a:t>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 action="ppaction://hlinksldjump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agen 110"/>
          <p:cNvPicPr/>
          <p:nvPr/>
        </p:nvPicPr>
        <p:blipFill>
          <a:blip r:embed="rId10"/>
          <a:stretch/>
        </p:blipFill>
        <p:spPr>
          <a:xfrm>
            <a:off x="4932360" y="1989000"/>
            <a:ext cx="3668760" cy="332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Organization Chart 5"/>
          <p:cNvGrpSpPr/>
          <p:nvPr/>
        </p:nvGrpSpPr>
        <p:grpSpPr>
          <a:xfrm>
            <a:off x="457200" y="2354040"/>
            <a:ext cx="4038120" cy="1143000"/>
            <a:chOff x="457200" y="2354040"/>
            <a:chExt cx="4038120" cy="1143000"/>
          </a:xfrm>
        </p:grpSpPr>
        <p:cxnSp>
          <p:nvCxnSpPr>
            <p:cNvPr id="234" name="_s4100"/>
            <p:cNvCxnSpPr>
              <a:stCxn id="235" idx="0"/>
              <a:endCxn id="236" idx="3"/>
            </p:cNvCxnSpPr>
            <p:nvPr/>
          </p:nvCxnSpPr>
          <p:spPr>
            <a:xfrm flipV="1" rot="16200000">
              <a:off x="2894400" y="2367720"/>
              <a:ext cx="229320" cy="1114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7" name="_s4101"/>
            <p:cNvCxnSpPr>
              <a:stCxn id="238" idx="0"/>
              <a:endCxn id="236" idx="3"/>
            </p:cNvCxnSpPr>
            <p:nvPr/>
          </p:nvCxnSpPr>
          <p:spPr>
            <a:xfrm flipH="1" flipV="1" rot="5400000">
              <a:off x="1828440" y="2415600"/>
              <a:ext cx="229320" cy="1019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6" name="_s4102"/>
            <p:cNvSpPr/>
            <p:nvPr/>
          </p:nvSpPr>
          <p:spPr>
            <a:xfrm>
              <a:off x="1251720" y="2354040"/>
              <a:ext cx="24501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. 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4103"/>
            <p:cNvSpPr/>
            <p:nvPr/>
          </p:nvSpPr>
          <p:spPr>
            <a:xfrm>
              <a:off x="457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4104"/>
            <p:cNvSpPr/>
            <p:nvPr/>
          </p:nvSpPr>
          <p:spPr>
            <a:xfrm>
              <a:off x="2590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able in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5" descr="Imagen 126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nálisis de la estructura formal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niveles:  4 (aunque no todos los departamentos tienen el mismo número de nive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de agrupación de departamentos: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por departa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Laboral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Jurídic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Fiscal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Administrativo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general de la empresa: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de control medi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ribución de los 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Cúpula directiva (jefes de departamento)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irectivos de nivel medio (asesores)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Personal operativo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RGANIGRA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250920" y="3213000"/>
            <a:ext cx="115236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68360" y="1700280"/>
            <a:ext cx="847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IS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2627280" y="3357720"/>
            <a:ext cx="10382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ABOR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124000" y="5516640"/>
            <a:ext cx="11908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JURÍDI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9" name="WordArt 11"/>
          <p:cNvSpPr txBox="1"/>
          <p:nvPr/>
        </p:nvSpPr>
        <p:spPr>
          <a:xfrm>
            <a:off x="4427640" y="3357720"/>
            <a:ext cx="1466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MINISTR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164360" y="3068640"/>
            <a:ext cx="1763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Í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1187280" y="1915920"/>
            <a:ext cx="1081080" cy="115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900000" y="3933720"/>
            <a:ext cx="107964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147636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3419640" y="6021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3276720" y="1844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838836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 flipV="1">
            <a:off x="8244000" y="422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7"/>
          <p:cNvSpPr/>
          <p:nvPr/>
        </p:nvSpPr>
        <p:spPr>
          <a:xfrm>
            <a:off x="2916360" y="407664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4067280" y="4941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V="1">
            <a:off x="7236000" y="4221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0"/>
          <p:cNvSpPr/>
          <p:nvPr/>
        </p:nvSpPr>
        <p:spPr>
          <a:xfrm>
            <a:off x="4643280" y="1557360"/>
            <a:ext cx="3024360" cy="57636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STION DE IMPUEST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CUEMENTOS PARA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1"/>
          <p:cNvSpPr/>
          <p:nvPr/>
        </p:nvSpPr>
        <p:spPr>
          <a:xfrm>
            <a:off x="4284720" y="4653000"/>
            <a:ext cx="2808360" cy="647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ESENTACIÓN DE DOCUMENT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 IMPUEST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LOS TRABAJADORES DE LOS CLI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2"/>
          <p:cNvSpPr/>
          <p:nvPr/>
        </p:nvSpPr>
        <p:spPr>
          <a:xfrm>
            <a:off x="611280" y="2421000"/>
            <a:ext cx="1800000" cy="431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4"/>
          <p:cNvSpPr/>
          <p:nvPr/>
        </p:nvSpPr>
        <p:spPr>
          <a:xfrm>
            <a:off x="539640" y="4724280"/>
            <a:ext cx="1800360" cy="43200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5"/>
          <p:cNvSpPr/>
          <p:nvPr/>
        </p:nvSpPr>
        <p:spPr>
          <a:xfrm>
            <a:off x="1692360" y="3213000"/>
            <a:ext cx="1008000" cy="72072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6"/>
          <p:cNvSpPr/>
          <p:nvPr/>
        </p:nvSpPr>
        <p:spPr>
          <a:xfrm flipH="1" flipV="1">
            <a:off x="3276720" y="2421000"/>
            <a:ext cx="1800000" cy="792000"/>
          </a:xfrm>
          <a:prstGeom prst="line">
            <a:avLst/>
          </a:prstGeom>
          <a:ln w="38160">
            <a:solidFill>
              <a:srgbClr val="7171ff"/>
            </a:solidFill>
            <a:prstDash val="lgDashDot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8"/>
          <p:cNvSpPr/>
          <p:nvPr/>
        </p:nvSpPr>
        <p:spPr>
          <a:xfrm>
            <a:off x="4140360" y="2349360"/>
            <a:ext cx="647640" cy="57492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9"/>
          <p:cNvSpPr/>
          <p:nvPr/>
        </p:nvSpPr>
        <p:spPr>
          <a:xfrm flipH="1">
            <a:off x="3492360" y="3500280"/>
            <a:ext cx="122400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0"/>
          <p:cNvSpPr/>
          <p:nvPr/>
        </p:nvSpPr>
        <p:spPr>
          <a:xfrm flipH="1">
            <a:off x="3059280" y="4005360"/>
            <a:ext cx="1512720" cy="151128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1"/>
          <p:cNvSpPr/>
          <p:nvPr/>
        </p:nvSpPr>
        <p:spPr>
          <a:xfrm>
            <a:off x="2411280" y="2421000"/>
            <a:ext cx="0" cy="295272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2700360" y="2421000"/>
            <a:ext cx="216000" cy="86364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3"/>
          <p:cNvSpPr/>
          <p:nvPr/>
        </p:nvSpPr>
        <p:spPr>
          <a:xfrm>
            <a:off x="2771640" y="2492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4"/>
          <p:cNvSpPr/>
          <p:nvPr/>
        </p:nvSpPr>
        <p:spPr>
          <a:xfrm>
            <a:off x="3132000" y="4724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5"/>
          <p:cNvSpPr/>
          <p:nvPr/>
        </p:nvSpPr>
        <p:spPr>
          <a:xfrm>
            <a:off x="3995640" y="3141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6"/>
          <p:cNvSpPr/>
          <p:nvPr/>
        </p:nvSpPr>
        <p:spPr>
          <a:xfrm>
            <a:off x="2124000" y="4149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7"/>
          <p:cNvSpPr/>
          <p:nvPr/>
        </p:nvSpPr>
        <p:spPr>
          <a:xfrm>
            <a:off x="755640" y="1773360"/>
            <a:ext cx="647640" cy="5745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619280" y="1844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692360" y="20606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administrativo lleva a cabo la contabilidad de la sociedad, contando para ello con la información relacionada con cada departamento: nivel de ingresos, cobros pendientes a clientes, costes de los servicios prestad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755640" y="242100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755640" y="292428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1403280" y="1628640"/>
            <a:ext cx="144360" cy="1871640"/>
          </a:xfrm>
          <a:custGeom>
            <a:avLst/>
            <a:gdLst>
              <a:gd name="textAreaLeft" fmla="*/ 0 w 144360"/>
              <a:gd name="textAreaRight" fmla="*/ 5220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403280" y="458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jurídico se encarga de llevar a cabo los recursos y procesos judici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755640" y="450864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/>
          <p:cNvSpPr/>
          <p:nvPr/>
        </p:nvSpPr>
        <p:spPr>
          <a:xfrm flipV="1" rot="10696200">
            <a:off x="755640" y="3715920"/>
            <a:ext cx="504720" cy="4338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1476360" y="364500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1476360" y="357336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epartamentos fiscal y laboral tratan los datos relacionados con los recursos económicos, tributarios, labor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755640" y="5445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203640" y="5373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x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755640" y="6165720"/>
            <a:ext cx="230364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3276720" y="595008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in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1268280"/>
            <a:ext cx="187164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 de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2349360"/>
            <a:ext cx="8640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48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2565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3500280"/>
            <a:ext cx="1297080" cy="289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4360" y="422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5157720"/>
            <a:ext cx="856944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300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537372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pieza de las ofic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8360" y="537372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ministración y contabilidad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2492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licitud d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95640" y="3213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3284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 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414972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cambio de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7640" y="422100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nominas y co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11640" y="3357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24360" y="2492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eso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24720" y="2565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im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72360" y="335772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59280" y="191628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tualiza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155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upuestos an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501336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623736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cobro de los servi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5964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028000" y="501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19640" y="1413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600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5640" y="2637000"/>
            <a:ext cx="20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34764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35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80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7236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92720" y="458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11280" y="4508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7636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476360" y="278100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cultura de la empre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 y manifestaciones de la 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3635280" y="2133720"/>
            <a:ext cx="2016360" cy="503280"/>
          </a:xfrm>
          <a:custGeom>
            <a:avLst/>
            <a:gdLst>
              <a:gd name="textAreaLeft" fmla="*/ 504000 w 2016360"/>
              <a:gd name="textAreaRight" fmla="*/ 1512360 w 2016360"/>
              <a:gd name="textAreaTop" fmla="*/ 1476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211640" y="2205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55640" y="2924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2340000" y="2997360"/>
            <a:ext cx="1224000" cy="287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826920" y="342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82692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82692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l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755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2411280" y="350028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2411280" y="393372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2411280" y="4365720"/>
            <a:ext cx="1081080" cy="21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2411280" y="479736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3708360" y="29242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terocontrol: asistencia, horarios, rend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3635280" y="33577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bajo en equipo: tareas y objetivos compar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3708360" y="3789360"/>
            <a:ext cx="47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errores: las materias contables y tributarias no son propicias a la exper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3708360" y="43657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directas: transparencia comun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708360" y="4724280"/>
            <a:ext cx="48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medianamente horizontales: debido a los pocos niveles de jerarqu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exto de ajuste los valores personales y organiza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nos encontramos ante una organización de tip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tiva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racterizada por la convergencia de valores entre todos sus componentes, así como un alto grad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alt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tendencia personal. Podemos apreciar una influenci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mbólic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sus directivos. La forma de la implicación de los trabajadores 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Imagen 119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ipo de cultur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Feu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ste contexto cultural se corresponde co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iveles de codificación baj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difusión de la información limitada a las relaciones pers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rmalmente se desarrolla a partir de una autoridad carismática ( en este caso el fundador) que se insinúa en toda la organización mediante una red formada por sus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embros de confianz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 en este caso estaríamos hablando los hijos del fundador). La organización funciona co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patía y buenas relaciones entre la gente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bran vital importancia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laciones pers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 importante serían las demandas personales del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buen subordinado trabaja con ahínco y 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al a los intereses del superior y los cl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igna de confianza y por supuesto debe supeditarse a objetivos organiz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a esta lógica se insiste en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ategias de coordinación jerárqu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unque también existe una necesidad de compartir valores y creencias comunes. Esta organización se identifica con este tipo de cultura debido a su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igen famili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67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SL. tiene subcontratados algunos servicios a dos empresas externas, esta técnica recibe el nombre de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asa en la descentralización de servicios en la provincia de Córdoba mediante la colaboración de FELIX COBOS ASESORES,SL. (una pequeña asesoría localizada en Bujanlance) y Grac Asesores SL (Adamuz) con el objetivo de flexibilizar la estructura de la organiz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3081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Análisis político de la organiz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nálisis del entorn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Análisis de la tecnologí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la estrate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Configuración organiz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agen 112"/>
          <p:cNvPicPr/>
          <p:nvPr/>
        </p:nvPicPr>
        <p:blipFill>
          <a:blip r:embed="rId6"/>
          <a:stretch/>
        </p:blipFill>
        <p:spPr>
          <a:xfrm>
            <a:off x="776160" y="1600200"/>
            <a:ext cx="3651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Ventajas del outsourcing esta socie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ejora de los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mento de recursos y capacidades, sin necesidad de realizar inversiones prop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reducción de coste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ayor cuot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presencia indirecta en otras áreas geográficas del mercado, sin necesidad de traslados ni creación de sucur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convenientes del outsourcing para esta socieda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reducción en los grados de implicación en algunas fases del servicio subcontra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descuido de la responsabilidad de la dirección funcional interna respecto a las actividades externaliz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Se puede dar el caso de que cualquier error de la empresa subcontratada pueda repercutir en la posición de nuestra organización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político de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es una sociedad limitada, creada en un principio por un único socio y que ahora se encuentra a cargo de sus tre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iene relación con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Economista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Abogado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empleados asisten con frecuencia a cursos realizados por dichas entidades así como a reuniones sobre temas de interés relacionados con el desarrollo de sus actividade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648320" y="1936800"/>
            <a:ext cx="4038480" cy="3857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 se enfrenta y convive con un entorno con las siguie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lejo pero concr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posibilidades de una prestación de servicios localizado o descentralizada geográf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lejidad es suficiente como para que hagan falta procedimientos que solo se pueden aprender por medio de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paración amp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puesto que se trata de empleados profesionales con sus correspondientes titulaciones y cual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a la vez este entorno es lo suficientemente estable como para que su uso pueda ser estandarizado mediante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casillamient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ertorio de habilidades que los profesionales están dispuestos a usar y que se aplican a las situaciones conocidas (llamadas contingencias) también normal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mplejidad de este entorno se debe sobre todo a su gran contacto permanente con el ámbito de las leyes económicas, tributarias, laborales, contables y jurídicas, y al continuo cambio que estas sufren como consecuencia de su adaptación a la sociedad actual y sus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2090520" cy="2333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tecnolog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ecto a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dios técn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odemos decir que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cillos, tratándose de una tecnología rutinaria y de baja regul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a su mayoría se tratan de programas informáticos para la gestión de la contabilidad y diferentes hardware de  procesamiento de d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últimos tiempos se ha incorporado a la utilización de servicios informáticos facilitados por la Agencia Tributaria para la presentación de información y tributos así como la declaraciones o recursos de tributos y otros documentos tribut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j0285410"/>
          <p:cNvPicPr/>
          <p:nvPr/>
        </p:nvPicPr>
        <p:blipFill>
          <a:blip r:embed="rId1"/>
          <a:stretch/>
        </p:blipFill>
        <p:spPr>
          <a:xfrm>
            <a:off x="5734080" y="1806480"/>
            <a:ext cx="1866960" cy="1776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j0292020"/>
          <p:cNvPicPr/>
          <p:nvPr/>
        </p:nvPicPr>
        <p:blipFill>
          <a:blip r:embed="rId2"/>
          <a:stretch/>
        </p:blipFill>
        <p:spPr>
          <a:xfrm>
            <a:off x="5732640" y="414972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rId3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estrate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nive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aríamos ante una empres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etit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Con un conjunt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ofensivas y defens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ermiten mantener o mejorar la posición competitiva de la empresa en el sector para conseguir los objetivos estable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áreas de actu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inancieras en su gran may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96712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actitudes antes las fortalezas/debil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trón defens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ofrece una variedad limitada de servicios a un segmento específico del mercado total potencial en mercados muy competitivos.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ta dirección es muy cualific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os trabajadores dedican una atención especial a la mejora de eficiencia en la realización de sus actividades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novación de procesos, mejora de c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tc. ) La organización evita los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3"/>
          <a:stretch/>
        </p:blipFill>
        <p:spPr>
          <a:xfrm>
            <a:off x="627120" y="2130480"/>
            <a:ext cx="369720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onfiguración organizati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rata de una configuració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burocrática-profesi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n 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ENTORNO COMPLEJO, INCIERT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TECNOLOGÍA RUTINARIA Y BAJ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UAL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GONIERNO PARTICIPATI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DO POR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ÉG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FORMULACIÓN DE ESTRATEGIAS P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E DE LOS PROFESIONAL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27280" y="1989000"/>
            <a:ext cx="73080" cy="129564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00360" y="3789360"/>
            <a:ext cx="71280" cy="1655640"/>
          </a:xfrm>
          <a:custGeom>
            <a:avLst/>
            <a:gdLst>
              <a:gd name="textAreaLeft" fmla="*/ 45720 w 71280"/>
              <a:gd name="textAreaRight" fmla="*/ 71640 w 71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I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STRATEGÍA BÁSICA: NORMALIZAC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Ó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FESIONALES (EH, AV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LIZACIÓN COERCITIV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PAN DE CONTROL ELEVADO A NIVEL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ONAL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TAFF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NO EXISTEN DISPOSITIVOS D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OMUNICACIÓN INTERN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LA AUTONOM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GRUPACIÓN FUNCIONAL 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TOMA DE DECISIONES EN SEN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7280" y="1773360"/>
            <a:ext cx="289080" cy="3887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BAD CEPEDELLO ASESORES,SL. Fue fundada en (1997) por Rafael Abad, en sus comienzo (trabajaba como profesional independiente, en 1997 paso a ser sociedad) era una pequeña empresa dedicada a la asesoría de pequeñas empresas de la capital cordobes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 el tiempo el número de clientes y las tareas realizadas por la organización fueron cre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DOS CON SU PROFESIÓN 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ON LA ORGANIZACIÓN (AUNQUE 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STRO CASO, AL SER UNA EMPRE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R, ESTE ÚLTIMO ASPECTO NO 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 YA QUE SÍ HAY BAS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CIÓN CON LA ORGAN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ORGANIZACIÓN ES UN MEDIO PA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RAR OBJETIV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CHAZO DE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CIÓN PREVIA FUERA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RECURS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. PERFEC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APACIDAD DE SERVICIO PERSONAL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6000" y="1844640"/>
            <a:ext cx="215640" cy="25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27280" y="4508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UROCRACIA PROFE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ÁCTER INTRÍNSECAMENTE DEMOCR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NOMÍA DE SUS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O PARA LOGRAR OBJETIVO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DISCRE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484360" y="4437000"/>
            <a:ext cx="362268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ños más tarde los hijos del fundador se incorporaron a la empresa quedando a cargo de cada uno de los departamentos en los que se podían dividir las actividades de la socie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afael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graduado social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uan Abad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conomista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se Luis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bogad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En la actualidad la empresa se dedica al asesoramiento de grandes empresas, pymes y particulares ,en materia económica, laboral, fiscal y jurídica; financiera y contable; estudios de mercado y opinión; análisis, desarrollo e implantación de proyectos económicos y empresaria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Descentralización de servicios en la provincia mediante la colaboración de FELIX COBOS ASESORES,SL. Una pequeña asesoría localizada en Bujanlance. Y Grac Asesores SL (Adamu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Abad Asesores continua  a cargo de los hermanos Abad, quienes han continuado con el negocio manteniendo el carácter familiar y personalista de la sociedad. De este modo durante los últimos años se ha incorporado la siguiente generación de la familia Carmen e Inmaculada Aba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La empresa sigue manteniendo una base familiar, pero con los años se han mantenido actualizada dentro del ámbito empresarial modernizándose continuamente. Hoy por hoy cuenta con unos 25 empleados y un amplio número de clientes, incluyendo entre ellos empresas con influencias y actividades en el extranj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SORAMIENTO A EMPRESAS Y PARTICULARES EN MATERIA ECONOMICA, LABORAL, FISCAL, FINANCIERA Y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UDIOS DE MERCADO 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LISIS, DESARROLLO E IMPLANTACION DE PROYECTOS ECONOMICOS Y EMPRESARIAL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ARACTERÍSTICAS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bad Cepedello Asesores SL. Es una sociedad de carácter familiar y personalista que se dedica al ámbito del asesoramiento empresarial, tanto de grandes empresas como pymes y particulares. El asesoramiento llevado a cabo por la organización abarca las siguientes materi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conómica; laboral, fiscal y jurídica; financiera y contable; estudios de mercado y opinión; análisis, desarrollo e implantación de proyectos económicos y empresa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3630600" cy="17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14:31Z</dcterms:created>
  <dc:creator> isabel</dc:creator>
  <dc:description/>
  <dc:language>en-US</dc:language>
  <cp:lastModifiedBy> isabel</cp:lastModifiedBy>
  <dcterms:modified xsi:type="dcterms:W3CDTF">2009-05-31T12:33:27Z</dcterms:modified>
  <cp:revision>36</cp:revision>
  <dc:subject/>
  <dc:title>Organización y Administración de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